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81F16-2964-417F-BF6E-60D256A05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552AC-891B-4010-8AEF-D2FEAC5C1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B7FC7-FA5E-4665-B225-743D651FA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CDEC8-A421-4C92-B805-E96C8471A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C31A4-B450-44A0-B28B-77B45E4C8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D4A98-5B40-4FE1-9CD1-3CDED9BF3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A6111-FDA9-414D-B264-FE5F4AF30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FBF8B-4818-41C9-81DD-9108A4636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C0754-05F9-439E-A306-B8F2C41BE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C9040-88C5-41DD-B50E-A0974B033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4E056-7205-416B-8742-7C64A32F7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67D69-9B6F-46AE-AD2B-A0FABDCEB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10618-048E-4B47-9AC5-4B1A52620099}" type="datetime">
              <a:rPr b="0" lang="sl-SI" sz="1200" spc="-1" strike="noStrike">
                <a:solidFill>
                  <a:srgbClr val="898989"/>
                </a:solidFill>
                <a:latin typeface="Calibri"/>
              </a:rPr>
              <a:t>28.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A32D1-EA70-4F25-81B3-E2409789B91A}"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